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2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mailto:jmmps@maine.rr.com" TargetMode="External"/><Relationship Id="rId3" Type="http://schemas.openxmlformats.org/officeDocument/2006/relationships/hyperlink" Target="http://www.smartfeedsystem.com/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5838840"/>
            <a:ext cx="576252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eral Processing Services LLC</a:t>
            </a:r>
            <a:br>
              <a:rPr sz="18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MB 128, 50 Market St., South Portland, ME 0410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lephone 207-741-2955 | </a:t>
            </a: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2"/>
              </a:rPr>
              <a:t>jmmps@maine.rr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| </a:t>
            </a: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3"/>
              </a:rPr>
              <a:t>http://www.smartfeedsystem.co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5651640" y="5865840"/>
            <a:ext cx="1612800" cy="636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352440" y="5753160"/>
            <a:ext cx="842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7408800" y="6021360"/>
            <a:ext cx="1554120" cy="3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4480" y="606600"/>
            <a:ext cx="863280" cy="553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slide6.xml"/><Relationship Id="rId7" Type="http://schemas.openxmlformats.org/officeDocument/2006/relationships/slide" Target="slide14.xml"/><Relationship Id="rId8" Type="http://schemas.openxmlformats.org/officeDocument/2006/relationships/image" Target="../media/image7.pn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" Target="slide17.xml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28600"/>
            <a:ext cx="85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martFeed™ Steps To Project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784520"/>
            <a:ext cx="18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ustom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37160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95560" y="961920"/>
            <a:ext cx="927360" cy="889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8080" y="939960"/>
            <a:ext cx="812880" cy="92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52840" y="1784520"/>
            <a:ext cx="16765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DT Testing</a:t>
            </a:r>
            <a:br>
              <a:rPr sz="1200"/>
            </a:br>
            <a:r>
              <a:rPr b="1" lang="en-US" sz="1000" spc="-1" strike="noStrike" u="sng">
                <a:solidFill>
                  <a:srgbClr val="663300"/>
                </a:solidFill>
                <a:uFillTx/>
                <a:latin typeface="Tahoma"/>
                <a:hlinkClick r:id="rId3" action="ppaction://hlinksldjump"/>
              </a:rPr>
              <a:t>RDT Procedures</a:t>
            </a:r>
            <a:br>
              <a:rPr sz="1000"/>
            </a:br>
            <a:r>
              <a:rPr b="1" lang="en-US" sz="1000" spc="-1" strike="noStrike" u="sng">
                <a:solidFill>
                  <a:srgbClr val="663300"/>
                </a:solidFill>
                <a:uFillTx/>
                <a:latin typeface="Tahoma"/>
                <a:hlinkClick r:id="rId4" action="ppaction://hlinksldjump"/>
              </a:rPr>
              <a:t>Sample RDT Test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7024680" y="952560"/>
            <a:ext cx="938160" cy="838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76920" y="1784520"/>
            <a:ext cx="16765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-GDT Testing</a:t>
            </a:r>
            <a:br>
              <a:rPr sz="1200"/>
            </a:br>
            <a:r>
              <a:rPr b="1" lang="en-US" sz="1000" spc="-1" strike="noStrike" u="sng">
                <a:solidFill>
                  <a:srgbClr val="663300"/>
                </a:solidFill>
                <a:uFillTx/>
                <a:latin typeface="Tahoma"/>
                <a:hlinkClick r:id="rId6" action="ppaction://hlinksldjump"/>
              </a:rPr>
              <a:t>P-GDT Procedures</a:t>
            </a:r>
            <a:br>
              <a:rPr sz="1000"/>
            </a:br>
            <a:r>
              <a:rPr b="1" lang="en-US" sz="1000" spc="-1" strike="noStrike" u="sng">
                <a:solidFill>
                  <a:srgbClr val="663300"/>
                </a:solidFill>
                <a:uFillTx/>
                <a:latin typeface="Tahoma"/>
                <a:hlinkClick r:id="rId7" action="ppaction://hlinksldjump"/>
              </a:rPr>
              <a:t>Sample P-GDT Test 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67160" y="1371600"/>
            <a:ext cx="15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560" y="790560"/>
            <a:ext cx="785808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2467080"/>
            <a:ext cx="0" cy="9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209240" y="2571840"/>
            <a:ext cx="641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09600" y="2571840"/>
            <a:ext cx="0" cy="13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216920" y="3394080"/>
            <a:ext cx="711000" cy="965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715080" y="4432320"/>
            <a:ext cx="18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oject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593640" y="2855880"/>
            <a:ext cx="145440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603360" y="3933720"/>
            <a:ext cx="1454040" cy="100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04920" y="4965840"/>
            <a:ext cx="2085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otube© Estimators</a:t>
            </a:r>
            <a:br>
              <a:rPr sz="1200"/>
            </a:br>
            <a:r>
              <a:rPr b="1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1" action="ppaction://hlinksldjump"/>
              </a:rPr>
              <a:t>Filling Phase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ahoma"/>
              </a:rPr>
              <a:t> | </a:t>
            </a: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2" action="ppaction://hlinksldjump"/>
              </a:rPr>
              <a:t>Dewatered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3571920" y="2889360"/>
            <a:ext cx="1695240" cy="768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4"/>
          <a:stretch/>
        </p:blipFill>
        <p:spPr>
          <a:xfrm>
            <a:off x="4086360" y="4057560"/>
            <a:ext cx="819000" cy="849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00480" y="40194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3714840"/>
            <a:ext cx="0" cy="32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4086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81200" y="4956120"/>
            <a:ext cx="4181400" cy="6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rtFeed™ System &amp; Geotube® Containers</a:t>
            </a: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aintains Parameters Throughout Project</a:t>
            </a:r>
            <a:br>
              <a:rPr sz="1000"/>
            </a:b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5" action="ppaction://hlinksldjump"/>
              </a:rPr>
              <a:t>SmartFeed™ System Fly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6478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281240" y="922320"/>
            <a:ext cx="770544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2000" y="6400800"/>
            <a:ext cx="20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38200" y="905040"/>
            <a:ext cx="7705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2000" y="6400800"/>
            <a:ext cx="20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893880"/>
            <a:ext cx="774072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43280" y="82440"/>
            <a:ext cx="5248080" cy="6670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43640" y="6134040"/>
            <a:ext cx="154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63800" y="130320"/>
            <a:ext cx="7962840" cy="549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6280" y="626760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2000" y="187200"/>
            <a:ext cx="7935840" cy="5473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6280" y="6267600"/>
            <a:ext cx="18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633420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95600" y="0"/>
            <a:ext cx="530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0600" y="633420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8588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0600" y="633420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3224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52640" y="433440"/>
            <a:ext cx="7986600" cy="583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0600" y="6334200"/>
            <a:ext cx="16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54120" y="0"/>
            <a:ext cx="53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98720" y="461880"/>
            <a:ext cx="7921440" cy="5791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04840" y="482760"/>
            <a:ext cx="7905960" cy="5779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93760" y="68400"/>
            <a:ext cx="7812000" cy="6188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440" y="6410160"/>
            <a:ext cx="12859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2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652840" y="0"/>
            <a:ext cx="44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20840" y="876240"/>
            <a:ext cx="7680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651040" y="0"/>
            <a:ext cx="443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2000" y="6400800"/>
            <a:ext cx="20667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63300"/>
                </a:solidFill>
                <a:uFillTx/>
                <a:latin typeface="Tahoma"/>
                <a:hlinkClick r:id="rId1" action="ppaction://hlinksldjump"/>
              </a:rPr>
              <a:t>Back To Main S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647800" y="0"/>
            <a:ext cx="44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23:43:13Z</dcterms:created>
  <dc:creator>Doug Vanderweide</dc:creator>
  <dc:description/>
  <dc:language>en-US</dc:language>
  <cp:lastModifiedBy>Doug Vanderweide</cp:lastModifiedBy>
  <dcterms:modified xsi:type="dcterms:W3CDTF">2008-02-09T23:43:13Z</dcterms:modified>
  <cp:revision>44</cp:revision>
  <dc:subject/>
  <dc:title>Slide 1</dc:title>
</cp:coreProperties>
</file>