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894280"/>
            <a:ext cx="9144000" cy="96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5908680"/>
            <a:ext cx="2136600" cy="8431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900840" y="6054840"/>
            <a:ext cx="2200320" cy="56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martfeedsystem.com/" TargetMode="External"/><Relationship Id="rId2" Type="http://schemas.openxmlformats.org/officeDocument/2006/relationships/hyperlink" Target="mailto:jmmps@maine.rr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SmartFeed™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4440" y="4470480"/>
            <a:ext cx="82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emical Conditioning Syste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r Geotube® Dewater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9920" y="1266840"/>
            <a:ext cx="6870600" cy="31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4440" y="770040"/>
            <a:ext cx="889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SmartFeed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1584360"/>
            <a:ext cx="84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 patent-pending technology of Mineral Processing Services L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4440" y="2349360"/>
            <a:ext cx="87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ames E. Meagh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neral Processing Services LL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280" y="3551400"/>
            <a:ext cx="83311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B 128, 50 Market St. | South Portland, ME 04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(207) 741-2955 | Fax (207) 799-37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  <a:hlinkClick r:id="rId1"/>
              </a:rPr>
              <a:t>http://www.smartfeedsystem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| E-mail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  <a:hlinkClick r:id="rId2"/>
              </a:rPr>
              <a:t>jmmps@maine.rr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294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martFeed™ syste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neral Description:</a:t>
            </a:r>
            <a:endParaRPr b="0" lang="en-US" sz="36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514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martfeed™ design solves chemical conditioning applications problems for various geotextile containment applica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y was designed to be compatible with dredging and diver operations, variability of flow and solids mass in the slur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y is comprised of chemical makedown equipment, chemical-to-slurry mixing technology and on-board computer mass-balance report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y samples the slurry parameters every 15 seconds and recalculates the chemical dosage rate based on chang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484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olymer Make Down</a:t>
            </a:r>
            <a:endParaRPr b="0" lang="en-US" sz="36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390760"/>
            <a:ext cx="2743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95960" y="1066680"/>
            <a:ext cx="294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rtFeed™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e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035000"/>
            <a:ext cx="5721480" cy="454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95960" y="1855440"/>
            <a:ext cx="269568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33"/>
                </a:solidFill>
                <a:latin typeface="Tahoma"/>
                <a:ea typeface="Times New Roman"/>
              </a:rPr>
              <a:t>Meters neat emulsion or solution poly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01"/>
              </a:spcAft>
              <a:buClr>
                <a:srgbClr val="00003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ahom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33"/>
                </a:solidFill>
                <a:latin typeface="Tahoma"/>
                <a:ea typeface="Times New Roman"/>
              </a:rPr>
              <a:t>Mechanically mixes the product to begin proper ac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01"/>
              </a:spcAft>
              <a:buClr>
                <a:srgbClr val="00003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ahom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33"/>
                </a:solidFill>
                <a:latin typeface="Tahoma"/>
                <a:ea typeface="Times New Roman"/>
              </a:rPr>
              <a:t>Upgradable to ratio the neat product to the incoming water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01"/>
              </a:spcAft>
              <a:buClr>
                <a:srgbClr val="00003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ahom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33"/>
                </a:solidFill>
                <a:latin typeface="Tahoma"/>
                <a:ea typeface="Times New Roman"/>
              </a:rPr>
              <a:t>Transfers the solution to the application 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324000"/>
            <a:ext cx="8458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olymer Make Up Skids</a:t>
            </a:r>
            <a:endParaRPr b="0" lang="en-US" sz="3600" spc="-1" strike="noStrike">
              <a:solidFill>
                <a:srgbClr val="006600"/>
              </a:solidFill>
              <a:latin typeface="Georgi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085760"/>
            <a:ext cx="5715000" cy="4496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95960" y="1095480"/>
            <a:ext cx="268596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 to prepare and store solutions of emulsion grade polymer for onward dosing at the point of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eat emulsion is metered through a progressive cavity pump and injected into the water flow, prior to passing through an inversion pump to ensure complete dissolu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sultant solution is transferred to a storage tank, ready for dosing at the point of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56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377640"/>
            <a:ext cx="899172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olymer Addition (non-post dilution)</a:t>
            </a:r>
            <a:endParaRPr b="0" lang="en-US" sz="3600" spc="-1" strike="noStrike">
              <a:solidFill>
                <a:srgbClr val="006600"/>
              </a:solidFill>
              <a:latin typeface="Georgi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095480"/>
            <a:ext cx="5721480" cy="4486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95600" y="1023480"/>
            <a:ext cx="2621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4320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occulation is the destabilization of a hydro-phobic colloidal suspension by bonding between colloidal particles using long polymer chains of high molecular weight (greater than 1 million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4320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amount of polymer required to support continuous flocculation is dependent on the mass of dry solids entering the systems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4320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various portable unit are capable of handling up to 600 gpm @ .5% dilution concentration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4320">
              <a:lnSpc>
                <a:spcPct val="100000"/>
              </a:lnSpc>
              <a:spcAft>
                <a:spcPts val="12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s normally supports dredging projects in the 2000-3000 gallon per minute range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434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520" y="34092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olymer Addition (post-dilution)</a:t>
            </a:r>
            <a:endParaRPr b="0" lang="en-US" sz="3600" spc="-1" strike="noStrike">
              <a:solidFill>
                <a:srgbClr val="0066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95600" y="1095120"/>
            <a:ext cx="27385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68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reduce the need for fresh water when polymer demand is higher than 600 gpm @ .5% dilution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468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ts can be provided with post-dilution systems that allows filtrate from dewatering and or marine water for dilution of polymer in ranges up to 1,200 gpm for a .5% dilution polymer range. This supports dredging projects in the 2,000 – 4,000 gallons per minute rang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4440" y="1095480"/>
            <a:ext cx="5705640" cy="45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70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8760" y="355680"/>
            <a:ext cx="889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etup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5960" y="1109520"/>
            <a:ext cx="26431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rtFeed™ system is a patent-pending technology for chemical dos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ic project operational parameters -- flow, solids range, lbs of polymer per dry ton of solids – are specified on this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4440" y="1109520"/>
            <a:ext cx="570564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" y="369720"/>
            <a:ext cx="889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era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5960" y="1123920"/>
            <a:ext cx="27734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operational page allows operator to view, in real time, percent of dry solids, density, flow rate, pH and line pres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operational page selects which tubes are receiving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4440" y="1123920"/>
            <a:ext cx="570564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4440" y="1081080"/>
            <a:ext cx="5705640" cy="4513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0320" y="326880"/>
            <a:ext cx="889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ogging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95960" y="1081080"/>
            <a:ext cx="27162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ube logging is updated at the end of each operational d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will download which tubes in the project received how many gallons and dry ton solids that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3:39:36Z</dcterms:created>
  <dc:creator>ER</dc:creator>
  <dc:description/>
  <dc:language>en-US</dc:language>
  <cp:lastModifiedBy>Doug Vanderweide</cp:lastModifiedBy>
  <dcterms:modified xsi:type="dcterms:W3CDTF">2008-02-09T23:39:50Z</dcterms:modified>
  <cp:revision>413</cp:revision>
  <dc:subject/>
  <dc:title>No Slide Title</dc:title>
</cp:coreProperties>
</file>